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FE89-A435-4169-B740-026103BFACB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36B8-12A8-456D-BA6A-9E2234D83A6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7FC4-03AE-4BC2-9230-F9762F4AF49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35A6-E43C-4D7F-A539-D5D0B50961F0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6627-32D0-45C3-B231-9ED9E2B69182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0769-A222-401F-B2EC-6B98A9EE87C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8CB6-D9B7-4840-B18B-C0954BF4B6FC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F2B-DBFF-4989-8CAB-709E5737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0F4-12D1-4F1A-8859-76EB8447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ECC-05FC-43C3-99E2-7C50B3CE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E98-6628-455E-A287-82C93609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4812-43A2-43BC-8BB1-2C8BEFEA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C4C7-29BE-40FA-A403-349CD5FD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68B2-23F5-4385-AC77-8571E062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F4A2-B1AE-4D3F-81D5-5F577C84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8ED5-E742-4748-A54C-33894C76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EC65-4380-4EC8-84BD-FAAE9652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5107-4CB8-4372-B5B1-30341F13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84E-86F4-48B1-A51A-E0D5F446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9297-015D-465B-B156-E7C1C80F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D330-481E-4482-B58E-0C3C14E6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61CD-1191-4C25-9856-30BE1042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70E6-ABAA-4A78-8C01-F3F2D8D0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59E5-AB55-4D2D-A369-0E3BA5E1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9486E-A3E9-4F20-993A-E88318C7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AF0CD-8B63-44E6-9F9D-7012D083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47667-B841-4F99-A465-90953BF5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F49D5-6D45-4111-A9E8-C18875B3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1722D-0BA4-4297-9CF2-CFABCDF5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F5B-0FD4-4914-A7F5-14B75E1C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DC97E-B32A-481C-A158-04C63F23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962BF-49AE-48F3-BB94-91FB175E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3F1B5-C324-41B5-856E-BB458183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71121-7507-4981-B424-4E539646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F477E-75E4-41A7-A4CC-E693B8AC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88FB5-8E16-4DDF-B769-DBDC2D0A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C655F-6966-4148-81EA-CCFC7E6B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2CD00-2B7A-4F76-BE2D-45324E49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C2CE3-C592-4CC0-A812-6F1203F6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6BF7-2802-45FF-B024-069A3197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709-7996-471E-9459-A1903CE6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DE04-E0D7-4120-93E4-C6732DA1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9F3C-E0AB-4DD7-A267-63B78381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D9FB-C0C8-4694-BE80-AC711CC8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ADC6-ABC6-4869-B5B3-8EC4F3F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C89F1-ADCB-4207-83EB-30D51937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5CF2-0EDE-4774-BB90-09C6BCDD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94BA-B87C-4518-87EC-481B917B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69FD0-E61C-42D6-B91C-5BAA5EEF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A6AF-9721-4DD3-9276-F3B20F39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666-5DB5-48E0-A8AB-EB0B1739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494-6546-4DD6-971E-2DC263A5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BA4-D5D2-433F-BC90-B06E13D8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4E5-B09C-478D-A104-F5A8CD45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F1A-CE30-4697-85F8-5466B1F1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A772-2C01-42E6-B7A9-89B530013431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70D2-9F28-4B4E-B199-B3417A13BE48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7C87-C9E5-4469-BBC6-48CA9CB5570C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7438-D2A9-4E70-9581-C24140B44B95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완벽한 디자인은 가능한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7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차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5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완벽한 집 구하기의 어려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쟁하는 목표가 너무 많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좋은 이웃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좋은 위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좋은 교육환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햇빛이 잘 들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간도 넓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리할 필요가 없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적절한 예산을 초과하지 않아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동거인과의 상이한 목표 또는 상이한 가중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표 사이의 절충과 타협이 필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완벽한 집 짓기의 어려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디자인의 자유와 구속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료와 형태를 마음대로 결정할 수 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그 결과는 제멋대로의 집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예산과 시간의 제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내적 제약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하나의 결정이 다른 것에 영향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재료의 특성 등에 따른 물리적 제약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외적 제약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법과 도덕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고도제한 법령이나 주변 이웃과의 조화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구현의 어려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예상치 못했던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름다움을 고려한 설계가 공간을 줄이는 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예상과의 불일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림으로 생각했을 때와 다른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정보 공유의 불완정성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나무 마루를 깔기로 공유했다고 생각했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업자는 베니어판을 생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자가 생각한 나무는 생산되지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수 제작에는 비용과 시간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많이 듦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적 인공물에 대한 재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능을 가진 물리적 구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rom Peter Kro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능은 인간의 의도와 목표로부터 오지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기능의 구현은 물리적 구조에 의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원하는 모든 목표를 구현하기 위한 물리적 구조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재로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불가능하거나 고비용일 가능성 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절충과 타협을 통해 목표를 재조정함으로써 현실적으로 가능한 물리적 구조를  얻을 수 있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능의 구현과 물리적 지식은 매우 밀접한 관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모든 물리적 지식이 과학 이론으로부터 유도되진 않지만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클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젬클립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완전하진 않지만 좋은 인공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종이를 핀으로 철하는 방법의 문제점 상당수 해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계로 자동 제작하여 핀만큼 저렴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럼에도 여러 단점이 있음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새로운 클립 특허 많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중 극소수만 살아 남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비싸지만 종이를 덜 찢고 더 많은 종이를 무는 클립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철사를 절약해 저렴하지만 힘이 약한 클립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양방향으로 낄 수 있는 클립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여전히 대세는 젬클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2:12:23Z</dcterms:created>
  <dc:creator>zolaist</dc:creator>
  <dc:description/>
  <dc:language>en-US</dc:language>
  <cp:lastModifiedBy>zolaist</cp:lastModifiedBy>
  <dcterms:modified xsi:type="dcterms:W3CDTF">2010-10-15T02:49:14Z</dcterms:modified>
  <cp:revision>8</cp:revision>
  <dc:subject/>
  <dc:title>완벽한 디자인은 가능한가?</dc:title>
</cp:coreProperties>
</file>